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828800" cy="7044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To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Introduc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Tas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Proce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ction="ppaction://hlinksldjump"/>
              </a:rPr>
              <a:t>Evalu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Conclus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Teacher pag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Credi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hyperlink" Target="http://webquest.sdsu.edu/webquest.html"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2438280" y="304920"/>
            <a:ext cx="6400800" cy="500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t the Title of the Lesson Her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ebQuest for xth Grade (Put Subject He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Your Name Here</a:t>
            </a:r>
            <a:br>
              <a:rPr sz="1800"/>
            </a:br>
            <a:r>
              <a:rPr b="0" lang="en-US" sz="1200" spc="-1" strike="noStrike">
                <a:solidFill>
                  <a:srgbClr val="000000"/>
                </a:solidFill>
                <a:latin typeface="Arial"/>
              </a:rPr>
              <a:t>(Insert Your E-mail Address as a hyperlink – this should be hidden “behind” your na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t some interesting graphic representing the content he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a template from San Diego State University’s </a:t>
            </a:r>
            <a:r>
              <a:rPr b="0" lang="en-US" sz="1400" spc="-1" strike="noStrike" u="sng">
                <a:solidFill>
                  <a:srgbClr val="009999"/>
                </a:solidFill>
                <a:uFillTx/>
                <a:latin typeface="Arial"/>
                <a:hlinkClick r:id="rId1"/>
              </a:rPr>
              <a:t>The WebQuest P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2133720" y="457200"/>
            <a:ext cx="6858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This document should be written with the student as the intended audience. Write a short paragraph here to introduce the activity or lesson to the students.  If there is a role or scenario involved (e.g., "You are a detective trying to identify the mysterious poet.") then here is where you'll set the stage. If there's no motivational intro like that, use this section to provide a short advance organizer or overview.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hat the purpose of this section is to both prepare and hook the reader.  It is also in this section that you'll communicate the Big Question (Essential Question, Guiding Question) that the whole WebQuest is centered around.</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33720" y="493560"/>
            <a:ext cx="5410080" cy="3928320"/>
          </a:xfrm>
          <a:prstGeom prst="rect">
            <a:avLst/>
          </a:prstGeom>
          <a:noFill/>
          <a:ln w="0">
            <a:noFill/>
          </a:ln>
        </p:spPr>
        <p:style>
          <a:lnRef idx="0"/>
          <a:fillRef idx="0"/>
          <a:effectRef idx="0"/>
          <a:fontRef idx="minor"/>
        </p:style>
        <p:txBody>
          <a:bodyPr lIns="90000" rIns="90000" tIns="46800" bIns="46800" anchor="t">
            <a:spAutoFit/>
          </a:bodyPr>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ask</a:t>
            </a:r>
            <a:endParaRPr b="0" lang="en-US" sz="24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crisply and clearly what the end result of the learners' activities will be. The task could be a:</a:t>
            </a:r>
            <a:endParaRPr b="0" lang="en-US" sz="1200" spc="-1" strike="noStrike">
              <a:solidFill>
                <a:srgbClr val="000000"/>
              </a:solidFill>
              <a:latin typeface="Arial"/>
            </a:endParaRPr>
          </a:p>
          <a:p>
            <a:pPr marL="3510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or mystery to be solved; </a:t>
            </a:r>
            <a:endParaRPr b="0" lang="en-US" sz="1200" spc="-1" strike="noStrike">
              <a:solidFill>
                <a:srgbClr val="000000"/>
              </a:solidFill>
              <a:latin typeface="Arial"/>
            </a:endParaRPr>
          </a:p>
          <a:p>
            <a:pPr marL="3510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to be formulated and defended; </a:t>
            </a:r>
            <a:endParaRPr b="0" lang="en-US" sz="1200" spc="-1" strike="noStrike">
              <a:solidFill>
                <a:srgbClr val="000000"/>
              </a:solidFill>
              <a:latin typeface="Arial"/>
            </a:endParaRPr>
          </a:p>
          <a:p>
            <a:pPr marL="3510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to be designed; </a:t>
            </a:r>
            <a:endParaRPr b="0" lang="en-US" sz="1200" spc="-1" strike="noStrike">
              <a:solidFill>
                <a:srgbClr val="000000"/>
              </a:solidFill>
              <a:latin typeface="Arial"/>
            </a:endParaRPr>
          </a:p>
          <a:p>
            <a:pPr marL="3510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to be analyzed; </a:t>
            </a:r>
            <a:endParaRPr b="0" lang="en-US" sz="1200" spc="-1" strike="noStrike">
              <a:solidFill>
                <a:srgbClr val="000000"/>
              </a:solidFill>
              <a:latin typeface="Arial"/>
            </a:endParaRPr>
          </a:p>
          <a:p>
            <a:pPr marL="3510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insight to be articulated; </a:t>
            </a:r>
            <a:endParaRPr b="0" lang="en-US" sz="1200" spc="-1" strike="noStrike">
              <a:solidFill>
                <a:srgbClr val="000000"/>
              </a:solidFill>
              <a:latin typeface="Arial"/>
            </a:endParaRPr>
          </a:p>
          <a:p>
            <a:pPr marL="3510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to be created; </a:t>
            </a:r>
            <a:endParaRPr b="0" lang="en-US" sz="1200" spc="-1" strike="noStrike">
              <a:solidFill>
                <a:srgbClr val="000000"/>
              </a:solidFill>
              <a:latin typeface="Arial"/>
            </a:endParaRPr>
          </a:p>
          <a:p>
            <a:pPr marL="3510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message or journalistic account to be crafted; </a:t>
            </a:r>
            <a:endParaRPr b="0" lang="en-US" sz="1200" spc="-1" strike="noStrike">
              <a:solidFill>
                <a:srgbClr val="000000"/>
              </a:solidFill>
              <a:latin typeface="Arial"/>
            </a:endParaRPr>
          </a:p>
          <a:p>
            <a:pPr marL="3510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eative work, or </a:t>
            </a:r>
            <a:endParaRPr b="0" lang="en-US" sz="1200" spc="-1" strike="noStrike">
              <a:solidFill>
                <a:srgbClr val="000000"/>
              </a:solidFill>
              <a:latin typeface="Arial"/>
            </a:endParaRPr>
          </a:p>
          <a:p>
            <a:pPr marL="3510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requires the learners to process and </a:t>
            </a:r>
            <a:r>
              <a:rPr b="0" i="1" lang="en-US" sz="1200" spc="-1" strike="noStrike">
                <a:solidFill>
                  <a:srgbClr val="000000"/>
                </a:solidFill>
                <a:latin typeface="Arial"/>
              </a:rPr>
              <a:t>transform</a:t>
            </a:r>
            <a:r>
              <a:rPr b="0" lang="en-US" sz="1200" spc="-1" strike="noStrike">
                <a:solidFill>
                  <a:srgbClr val="000000"/>
                </a:solidFill>
                <a:latin typeface="Arial"/>
              </a:rPr>
              <a:t> the information they've gathered.</a:t>
            </a:r>
            <a:endParaRPr b="0" lang="en-US" sz="12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final product involves using some tool (e.g., HyperStudio, the Web, video), mention it here.</a:t>
            </a:r>
            <a:endParaRPr b="0" lang="en-US" sz="12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ist the steps that students will go through to get to the end point. That belongs in the Process section.</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133720" y="434880"/>
            <a:ext cx="6400800" cy="5205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omplish the task, what steps should the learners go through? Use the numbered list format in your web editor to automatically number the steps in the procedure. Describing this section well will help other teachers to see how your lesson flows and how they might adapt it for their own use, so the more detail and care you put into this, the better. Remember that this whole document is addressed to the student, however, so describe the steps using the second pers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you'll be assigned to a team of 3 student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picked a role to play....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o 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s will access the on-line resources that you've identified as they go through the Process. You may have a set of links that everyone looks at as a way of developing background information, or not. If you break learners into groups, embed the links that each group will look at within the description of that stage of the process. (Note, this is a change from the older WebQuest templates which included a separate Resources section. It's now clear that the resources belong in the Process section rather than al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ess block, you might also provide some guidance on how to organize the information gathered. This advice could suggestions to use flowcharts, summary tables, concept maps, or other organizing structures. The advice could also take the form of a checklist of questions to analyze the information with, or things to notice or think about. If you have identified or prepared guide documents on the Web that cover specific skills needed for this lesson (e.g. how to brainstorm, how to prepare to interview an expert), link them to this sec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362320" y="471600"/>
            <a:ext cx="6705360" cy="1007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cribe to the learners how their performance will be evaluated. Specify whether there will be a common grade for group work vs. individual gra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4" name=""/>
          <p:cNvGraphicFramePr/>
          <p:nvPr/>
        </p:nvGraphicFramePr>
        <p:xfrm>
          <a:off x="1905120" y="1295280"/>
          <a:ext cx="7010280" cy="5056200"/>
        </p:xfrm>
        <a:graphic>
          <a:graphicData uri="http://schemas.openxmlformats.org/drawingml/2006/table">
            <a:tbl>
              <a:tblPr/>
              <a:tblGrid>
                <a:gridCol w="1752480"/>
                <a:gridCol w="1168560"/>
                <a:gridCol w="1168200"/>
                <a:gridCol w="1168560"/>
                <a:gridCol w="1166760"/>
                <a:gridCol w="585720"/>
              </a:tblGrid>
              <a:tr h="662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emplar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99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complish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velop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eginn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cor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46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ed Objective or Perform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the highest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mastery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development and movement toward mastery of performance.</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a beginning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ed Objective or Perform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the highest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mastery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development and movement toward mastery of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a beginning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ed Objective or Perform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the highest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mastery of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development and movement toward mastery of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a beginning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5" name="">
            <a:hlinkClick r:id="" action="ppaction://hlinkshowjump?jump=nextslide"/>
          </p:cNvPr>
          <p:cNvSpPr/>
          <p:nvPr/>
        </p:nvSpPr>
        <p:spPr>
          <a:xfrm flipV="1">
            <a:off x="8763120" y="647640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8153280" y="64008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362320" y="456120"/>
            <a:ext cx="6705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ion (continued)</a:t>
            </a:r>
            <a:endParaRPr b="0" lang="en-US" sz="2400" spc="-1" strike="noStrike">
              <a:solidFill>
                <a:srgbClr val="000000"/>
              </a:solidFill>
              <a:latin typeface="Arial"/>
            </a:endParaRPr>
          </a:p>
        </p:txBody>
      </p:sp>
      <p:graphicFrame>
        <p:nvGraphicFramePr>
          <p:cNvPr id="48" name=""/>
          <p:cNvGraphicFramePr/>
          <p:nvPr/>
        </p:nvGraphicFramePr>
        <p:xfrm>
          <a:off x="1905120" y="1371600"/>
          <a:ext cx="7010280" cy="3124080"/>
        </p:xfrm>
        <a:graphic>
          <a:graphicData uri="http://schemas.openxmlformats.org/drawingml/2006/table">
            <a:tbl>
              <a:tblPr/>
              <a:tblGrid>
                <a:gridCol w="1752480"/>
                <a:gridCol w="1168560"/>
                <a:gridCol w="1168200"/>
                <a:gridCol w="1168560"/>
                <a:gridCol w="1166760"/>
                <a:gridCol w="585720"/>
              </a:tblGrid>
              <a:tr h="156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ed Objective or Perform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the highest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mastery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development and movement toward mastery of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a beginning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6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ed Objective or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the highest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mastery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development and movement toward mastery of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a beginning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9" name="">
            <a:hlinkClick r:id="" action="ppaction://hlinkshowjump?jump=previousslide"/>
          </p:cNvPr>
          <p:cNvSpPr/>
          <p:nvPr/>
        </p:nvSpPr>
        <p:spPr>
          <a:xfrm>
            <a:off x="8763120" y="647712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229600" y="64008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438280" y="380880"/>
            <a:ext cx="640080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a couple of sentences here that summarize what they will have accomplished or learned by completing this activity or lesson. You might also include some rhetorical questions or additional links to encourage them to extend their thinking into other content beyond this lesson.</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38280" y="380880"/>
            <a:ext cx="6400800" cy="17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s &amp; Refer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here the sources of any images, music or text that you're using. Provide links back to the original source. Say thanks to anyone who provided resources or hel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ny books and other analog media that you used as information sources as w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link back to The WebQuest Page so that others can acquire the latest version of this template and training materials.</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15:57:02Z</dcterms:created>
  <dc:creator>EBEC</dc:creator>
  <dc:description/>
  <dc:language>en-US</dc:language>
  <cp:lastModifiedBy>Ron</cp:lastModifiedBy>
  <dcterms:modified xsi:type="dcterms:W3CDTF">2005-12-18T16:49:26Z</dcterms:modified>
  <cp:revision>4</cp:revision>
  <dc:subject/>
  <dc:title>Slide 1</dc:title>
</cp:coreProperties>
</file>